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</p:sldIdLst>
  <p:sldSz cx="9864725" cy="684053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717120" y="744120"/>
            <a:ext cx="5365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84C-D60F-4193-B09E-A4C1889061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7B9C-2DC7-4D07-B532-A66D42094B5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682-585C-426C-B998-AED97B61958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E966-E33D-4783-9A77-B09F0946C89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24D8-629E-411F-A520-7DAB6CD3FC6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88D-8E6F-46C9-89BE-2A61EE5152D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CE0-EE42-43D0-84F7-9BA01229AFF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433B-583E-4480-B4B6-B2781196C3A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E5FC-E6D1-4187-B97C-513DF2EAA14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A16D-EA72-47A3-A59B-290E6FBCAE8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A09-28D6-4715-B1A8-F81928B2810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3EC-738D-471E-8B17-B34590CE946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7947-9A6A-4047-AFBB-51E901C951E2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3FE6-A0C9-49E8-9CA9-530A2959B9C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4D4C-8061-461D-98E3-C00BE4E9F637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516-7B9D-44F2-B571-CAD01292485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F9B-4F2E-4EA1-A9AA-238CB66E8352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56A-0627-4410-A408-7EA82F1174E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B0C-CD4A-4BF4-AB30-DE8DF66243F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2B3-89AC-402D-8732-E8CD6FA60F73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712-9AA9-4A6E-9A15-B50D3FF59891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7D54-2A18-49F0-8F29-AB9F109BC557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785-7E16-4D84-9271-CE1ADE821A5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369C-E012-47B2-A20E-148F6B535584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9D9-6E80-4717-AECD-FF9E29111F91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3FC5-782A-41CC-B5D7-43B633A031A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9AF-861A-4368-B9AA-60B95738005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0690-CFAE-4543-8F27-C56FFCC131A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9A2-287B-4B62-B252-CBBA6B74B1D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2AD3-D98C-48AD-89DC-6FE09F65739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D4B-4C01-4A36-9323-7C0853AE824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5EBF-3647-4170-89F4-59FD2C724EC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71D-43EF-4334-957E-EFC77D528DC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90DB-C4BC-4211-813E-18BE4AAA71A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2CE8-4DA1-4164-876C-8063DEEC35F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3A0F-213A-4C96-BAEE-69B56B26D1E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0EB-FDCD-4018-B6D9-A58AD5369FA4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A14A-835B-44B7-A80F-FE81D85B01E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C67-376C-4DB4-8AF2-5022042F47C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BCBA-055B-4B7A-B9B1-659DCFC205E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5C5E-AF9B-4247-B184-CB557214219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BC2-6460-4EB6-AB33-B2E213E11B7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6A03-F1D1-404E-9A0E-2E4954079823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90E-16A8-463E-BCDD-AED76DC24A2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1B1E-0432-49C4-8A01-46CE604B799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3856-33AF-4232-B944-5D48BC69193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EEC-5439-43AD-AB33-F79BBD384BB1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7CBC-3A52-4B4A-AB57-729F641FE845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7A0-689F-425B-A91C-DCA3912A695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6EE-335C-45CF-8B07-2E81DC70C7E4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38F-0622-4900-8E1B-F383C13A6EC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6CCE-C350-4CC1-AC51-0BA25D44488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3D5-032B-43A8-885E-DAE3560E3A7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9ADA-A027-46E4-A60A-512486338631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3E32367E-85B7-4F88-B89E-C3B8D529A2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A6ED4D75-C489-4D32-B4D3-E90AFEAD89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73DB5483-9C1A-4505-948A-7C58B28178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179280" y="64450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2484360" y="6408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8585280" y="64450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84DDF39B-44CC-4DAA-A80D-6AC0D7F0C1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360360" y="77472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41240" y="6407280"/>
            <a:ext cx="8763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940360" y="6445080"/>
            <a:ext cx="367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79280" y="6445080"/>
            <a:ext cx="9145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September 2014 Forum-Lehrgang Bergrecht         </a:t>
            </a:r>
            <a:r>
              <a:rPr b="0" lang="de-DE" sz="1400" spc="-1" strike="noStrike">
                <a:solidFill>
                  <a:srgbClr val="12254c"/>
                </a:solidFill>
                <a:latin typeface="Arial"/>
              </a:rPr>
              <a:t>Zentralbereich Recht/Compliance ZV 5</a:t>
            </a:r>
            <a:endParaRPr b="0" lang="en-US" sz="14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539640" y="1260360"/>
            <a:ext cx="932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12254c"/>
              </a:buClr>
              <a:buFont typeface="Arial"/>
              <a:buAutoNum type="alphaU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12254c"/>
                </a:solidFill>
                <a:latin typeface="Arial"/>
              </a:rPr>
              <a:t>Bergrecht im deutschen Rechtssyste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buClr>
                <a:srgbClr val="12254c"/>
              </a:buClr>
              <a:buFont typeface="Arial"/>
              <a:buAutoNum type="romanU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Bergrecht als Sonderrecht des Bergbaus = Geltungsbereich des BBergG</a:t>
            </a:r>
            <a:br>
              <a:rPr sz="1800"/>
            </a:b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II.</a:t>
            </a: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Zuordnung zu Rechtsgebieten</a:t>
            </a:r>
            <a:br>
              <a:rPr sz="1800"/>
            </a:b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buClr>
                <a:srgbClr val="12254c"/>
              </a:buClr>
              <a:buFont typeface="Arial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Privat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a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Bergschadensrecht, §§ 114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Regelungen über bergrechtliche Nachbarschaftsverhältnisse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z.B. §§ 42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Wirkung vo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E8937EA1-2EF0-40E3-9881-C4F2405395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ct val="125000"/>
              </a:lnSpc>
              <a:spcAft>
                <a:spcPts val="689"/>
              </a:spcAft>
              <a:buSzPct val="100000"/>
              <a:buBlip>
                <a:blip r:embed="rId2"/>
              </a:buBlip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7000">
              <a:lnSpc>
                <a:spcPct val="125000"/>
              </a:lnSpc>
              <a:spcAft>
                <a:spcPts val="624"/>
              </a:spcAft>
              <a:buSzPct val="100000"/>
              <a:buBlip>
                <a:blip r:embed="rId3"/>
              </a:buBlip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lnSpc>
                <a:spcPct val="125000"/>
              </a:lnSpc>
              <a:spcAft>
                <a:spcPts val="561"/>
              </a:spcAft>
              <a:buSzPct val="100000"/>
              <a:buBlip>
                <a:blip r:embed="rId4"/>
              </a:buBlip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7960">
              <a:lnSpc>
                <a:spcPct val="125000"/>
              </a:lnSpc>
              <a:spcAft>
                <a:spcPts val="1125"/>
              </a:spcAft>
              <a:buClr>
                <a:srgbClr val="000000"/>
              </a:buClr>
              <a:buSzPct val="50000"/>
              <a:buFont typeface="Arial"/>
              <a:buChar char="–"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6520">
              <a:lnSpc>
                <a:spcPct val="125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6520">
              <a:spcBef>
                <a:spcPts val="451"/>
              </a:spcBef>
              <a:buClr>
                <a:srgbClr val="12254c"/>
              </a:buClr>
              <a:buSzPct val="4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6520">
              <a:spcBef>
                <a:spcPts val="451"/>
              </a:spcBef>
              <a:buClr>
                <a:srgbClr val="12254c"/>
              </a:buClr>
              <a:buSzPct val="4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79609C6D-D540-4E27-950A-D5E37F8E01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8F0A7DC6-3CCE-4FE9-AD7D-699EA3FDA1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0D73F69C-E15A-4C0A-AF73-FAED8C9694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6F6AB4CE-2110-41A9-872C-D8C0F34D81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B7809605-A66D-4357-AD0A-0301148204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06698B54-1B8A-4B25-A2D7-1CD53A4589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493560" y="1595520"/>
          <a:ext cx="8877600" cy="4514760"/>
        </p:xfrm>
        <a:graphic>
          <a:graphicData uri="http://schemas.openxmlformats.org/drawingml/2006/table">
            <a:tbl>
              <a:tblPr/>
              <a:tblGrid>
                <a:gridCol w="4438800"/>
                <a:gridCol w="4438800"/>
              </a:tblGrid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tangle 28"/>
          <p:cNvSpPr/>
          <p:nvPr/>
        </p:nvSpPr>
        <p:spPr>
          <a:xfrm>
            <a:off x="468360" y="1187280"/>
            <a:ext cx="88772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uhr-Universität Bochum</a:t>
            </a:r>
            <a:endParaRPr b="0" lang="en-US" sz="32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Bergrecht und </a:t>
            </a: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untertägige Nutzungen </a:t>
            </a: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324000" y="1389240"/>
            <a:ext cx="885636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146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Abs. 4 zählt die unter das Regime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enden grundeigenen Bodenschätze enumerativ auf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Einzelne Bodenschätze, § 3 Abs. 4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lle übrigen Bodenschätze, soweit untertägige Aufsuch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oder Gewinnung, § 3 Abs. 4 Nr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ige Steine und E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weit übertägig, keine Anwendung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ndersituation neue Länder  (s. unt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4"/>
          <p:cNvSpPr/>
          <p:nvPr/>
        </p:nvSpPr>
        <p:spPr>
          <a:xfrm>
            <a:off x="324000" y="1364040"/>
            <a:ext cx="885636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146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Abs. 4 zählt die unter das Regime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enden grundeigenen Bodenschätze enumerativ auf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Einzelne Bodenschätze, § 3 Abs. 4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lle übrigen Bodenschätze, soweit untertägige Aufsuch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oder Gewinnung, § 3 Abs. 4 Nr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ige Steine und E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weit übertägig, keine Anwendung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ndersituation neue Länder  (s. unt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684360" y="1176840"/>
            <a:ext cx="828036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09640" algn="ctr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en der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liche Bedeutung des Berechtsamwesens fü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Öffentlich-rechtliches Konzessionssystem (Verbot m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nisvorbehalt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nis; § 7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illigung, § 8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werkseigentum, § 9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istung, § 16 Abs. 5, Widerruf, § 18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te Rechte, §§ 149, 15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grenzung zu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graphicFrame>
        <p:nvGraphicFramePr>
          <p:cNvPr id="527" name="Object 7"/>
          <p:cNvGraphicFramePr/>
          <p:nvPr/>
        </p:nvGraphicFramePr>
        <p:xfrm>
          <a:off x="395280" y="971640"/>
          <a:ext cx="85154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1640"/>
                    <a:ext cx="85154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0"/>
          <p:cNvSpPr/>
          <p:nvPr/>
        </p:nvSpPr>
        <p:spPr>
          <a:xfrm>
            <a:off x="611280" y="971640"/>
            <a:ext cx="900108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Anspruch auf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nspruch auf Erteilung von Bergbauberechtig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(gebundene “Erlaubnis”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Versagungsgründe, §§ 11 bis 13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Verfahren  a)  Antrags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Behördenzuständigkeiten, Beteiligung von Fachbehörd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Verfahrensbeschleun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Beteiligung Dritter, § 15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Rechtsmitt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graphicFrame>
        <p:nvGraphicFramePr>
          <p:cNvPr id="533" name="Object 6"/>
          <p:cNvGraphicFramePr/>
          <p:nvPr/>
        </p:nvGraphicFramePr>
        <p:xfrm>
          <a:off x="395280" y="971640"/>
          <a:ext cx="85154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1640"/>
                    <a:ext cx="85154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7"/>
          <p:cNvSpPr/>
          <p:nvPr/>
        </p:nvSpPr>
        <p:spPr>
          <a:xfrm>
            <a:off x="611280" y="971640"/>
            <a:ext cx="90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spcAft>
                <a:spcPts val="125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ung von Bergbauberechtigungen (z. B. Veräußer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Bergwerkseigentum), §§ 21 ff.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eiligung an der Aufsuchung, § 2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Übertragung der Erlaubnis, § 2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sübertragung (Überlassung zur Ausübung an Dritt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Veräußerung von Bergwerkseigentum; § 2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11280" y="1187280"/>
            <a:ext cx="8353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252360" y="981000"/>
            <a:ext cx="936000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urrierende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Anspruch auf Bewilligung aufgrund bestehender Erlaubni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Vorrang des Erlaubnisinhabers gegenüber Bewilligungsanträ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(§ 14 Abs. 1): Eintritts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Probleme: Rechtsschutz, Ermessen, Beurteilungsspielra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Konkurrenz gleichartiger Anträ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Ausschließlichkeitsgrundsa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Arbeitsprogramm; § 14 Abs. 2, Maßstab ist das “best wor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program” (Ausnahme: § 152 Abs. 2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Prioritätsgrundsatz bei gleichwertigen Anträ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684360" y="971640"/>
            <a:ext cx="8640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Beteiligung, § 2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Sonderregelung § 11 Nr. 5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Behandlung widerstreitender Intere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wissenschaftliche gewerbliche Zweck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Zulegung, § 35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Mitgewinnung von Bodenschätzen, Ausgleichspflicht, § 4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684360" y="971640"/>
            <a:ext cx="864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 der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neignungsre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er darf einen Rohstoff gewinnen und wer nicht?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Eigentum an Bergbaueinrichtungen (Tagesanlag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Rechtsposition des Bergbauberechtigten gegenüber d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Oberflächeneigentüm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Gegenstand der Bewilligung bei der Erdöl- und Erdgasförder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Bohrlochprinzip vs. Lagerstättenprinzi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Feldesüberschreitende Lagerstät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684360" y="971640"/>
            <a:ext cx="8640720" cy="53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grundspeicher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nwendbarkeit bergrechtlicher 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§ 126 Abs. 1,3 (künftig auch Bergschadensrecht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keine Bergbauberechtigung erforder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Besonderheiten in den neuen Bundesländer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Verhältnis zum Oberflächeneigent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4360" y="971640"/>
            <a:ext cx="86407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Salzgewinnung bei der Herstellung von Kaver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Gewinnungsberechtigung erforderlich (objektiv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Gewinnungsbegriff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Häufig: alte Recht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Entnahme und Ableitung von Wasser zum Sol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5"/>
          <p:cNvSpPr/>
          <p:nvPr/>
        </p:nvSpPr>
        <p:spPr>
          <a:xfrm>
            <a:off x="611280" y="971640"/>
            <a:ext cx="900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0480" indent="-4190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.    Bergrecht im deutschen Rechtssystem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grecht als Sonderrecht des Bergbaus =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76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9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haben, die zumindest teilweise in d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 fallen: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2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teinkohlen- und Braunkohlengewinn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Erdöl- und Erdgasgewinn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Methangasgewinnung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Erdwärmegewinnung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84360" y="971640"/>
            <a:ext cx="8640720" cy="58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II. 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equestration (CCS)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Hintergrund: Emissionshand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Zulässigkeit der CO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equestration na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tendem Recht?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 Kohlendioxid-Speicherungsgesetz vom 17.8.2012 (KSp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684360" y="971640"/>
            <a:ext cx="86407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X.  Bergbauberechtigungen in den neu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ndesländer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Rechtslage in der DDR vor 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Rechtsgrundla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Landesgesetze 1946-1948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erggesetz vom 12.05.1969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3. Durchführungsverordnung zum BergG  v. 12.8.197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Einteilung der mineralischen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BergG anwendbar auf sämtliche mineralische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odenschätze: mineralische Rohstoffe, deren Nutz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n volkswirtschaftlicher Bedeutung is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84360" y="971640"/>
            <a:ext cx="864072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Nicht erschöpfende Auflistung der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uletzt in 3. DVO zum BergG: sehr weit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ndere Rohstoffe ohne volkswirtschaftliche Bedeu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peicher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 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Volkseigentum an Bodenschätz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Volks- oder Privateigentum an anderen Rohstoff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tersuchungs-, Gewinnungs- und Speicherrecht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sätzlich staat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sübung durch staatliche Organe oder volkseige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e auf der Grundlage staatlicher Plankennziffern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84360" y="971640"/>
            <a:ext cx="86407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chtsänderungen 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     4. Durchführungsbestimmung zur Ver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 Gründung und Tätigkeit von Unternehmen m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ländischer Beteiligung in der DDR –Berechtigung zu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winnung mineralischer Rohstoffe v. 14.3.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  Verordnung über die Verleihung von Bergwerkseigent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m 15.8.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Einführung von Bergwerkseigentum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684360" y="971640"/>
            <a:ext cx="864072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Für bestimmte Bodenschätze (volkswirtschaftli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deutsame Rohstoff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Einschließlich Speicher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Anwendbarkeit der Vorschriften über Grundstück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Auf Antrag Verleihung von  Bergwerkseigentum 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Treuhandanstal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Bergwerkseigentum gegen Entgelt weiter übertragba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Einigungsvertra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Umwandlung der (volkswirtschaftlich bedeutsa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denschätze in bergfreie 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Weiterer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684360" y="971640"/>
            <a:ext cx="864072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ch Speicherung geeignete Formatio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Gesteine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bweichung von der Rechtslage in alten Bundesländer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dere Rohstoffe werden grundeigene Bodenschätz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ine Grundeigentümer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frechterhaltung bestehender Bergbau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rgwerkseigentum von Treuhandanstalt und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ern gilt als Bergwerkseigentum i.S. d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151 BBergG unbefristet weit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Untersuchungs- und Speicherrechte gelten weiter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84360" y="971640"/>
            <a:ext cx="864072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meldung von Gewinnungs- und Speicherrech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s zum 4.4.199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rgwerkseigentum förderabgabefrei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Regelung vom BVerfG als verfassungsgemäß bestätig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684360" y="971640"/>
            <a:ext cx="86407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Gesetz zur Vereinheitlichung der Rechtsverhältniss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i Bodenschätzen vom 15.4.1996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Vereinheitlichung der Einteilung von Bodenschätz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 gesamten Bundesgebie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rundeigentümer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4360" y="971640"/>
            <a:ext cx="86407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tandsschutz fü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tehend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bauberechtigungen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stehende Rechte bleiben aufrechterhal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Übergeleitetes Bergwerkseigentum bleibt unbefristet und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förderabgabefrei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oweit und solange Berechtigungen aufrechterhalten werden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bleiben die Bodenschätze bergfrei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Fristverkürzung für Aufnahme der Aufsuchung bzw. Gewin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Verfassungsrechtliche Bewer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179280" y="1044720"/>
            <a:ext cx="968544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pflicht und Betriebsplanzulassungsverfahre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 Betriebsplan, §§ 50 ff.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Funktionen des Betriebsplan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grenzung zu de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ücksichtigung der Sachgesetzlichkeiten des Bergbau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Lagerstättengebundenh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vorhersehbarkeit der geologischen Verhältnisse</a:t>
            </a:r>
            <a:br>
              <a:rPr sz="1800"/>
            </a:b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Dynamische Betriebswei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Wechselwirkungen zwischen Planung, Realisierung und weiterer 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ahrensstu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trument der behördlichen Überwach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in Instrument der Fach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gleich mit Anlagengenehm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zulassung und Grundabtre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5"/>
          <p:cNvSpPr/>
          <p:nvPr/>
        </p:nvSpPr>
        <p:spPr>
          <a:xfrm>
            <a:off x="395280" y="971640"/>
            <a:ext cx="9217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haben, die zumindest teilweise in d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 fallen: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2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Gewinnung von Erzen, Kali- und Steinsalzen und bestimmter anderer nicht- energetischer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Gewinnung hochwertiger Steine und Erd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Rohstoffgewinnung aus Hal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Erdgas- und Erdölspeicherung in Untergrundspeicher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Aussolen von Gesteinsformationen für Untergrundspeicher und für CC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Transit-Rohrleitungen im Bereich des Festlandsockel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Erkundungsbergwerke zur Vorbereitung atomarer Endlag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Errichtung und Betrieb unterirdischer Anlagen zur Lagerung radioaktiver 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79280" y="1044720"/>
            <a:ext cx="968544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Gegenstand des Betriebsplanes, § 51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such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winn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bereit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Tätigkeiten und Einricht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Untergrundspeicher, § 126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Endlagerung radioaktiver Abfälle, § 126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ohrungen, § 127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richtung, Betrieb, Einstell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freiung von der Betriebsplanpflicht, § 51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179280" y="1044720"/>
            <a:ext cx="968544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Arten von Betriebsplä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uptbetriebsplan, § 52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kultativer Rahmenbetriebsplan, § 52 Abs. 2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ligatorischer Rahmenbetriebsplan, § 52 Abs. 2 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nderbetriebsplan, § 52 Abs. 2 Nr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, § 5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meinschaftlicher Betriebsplan, § 52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179280" y="1044720"/>
            <a:ext cx="968544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Betriebsplanzulassun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rten d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ventionelle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, § 57 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Rechtswirkungen d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bundene Kontrollerlaubnis, § 55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planerische Gestaltungsfreiheit der 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ch bei Planfeststellungsbeschlus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Gestattungswirk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ßer Rahmen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179280" y="1044720"/>
            <a:ext cx="968544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 c)    Verhältnis zu außerbergrechtlichen Genehmigungserforderni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geschränkte Konzentrationswirkung des Planfeststellungsbeschluss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Konzentrationswirkung anderer Betriebsplanzulass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ndungswirkung der Rahmen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geschränkte Bindungswirkung der Zulassung eines fakultativ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Rahmenbetriebsplanes gegenüber nachfolgenden Haupt- u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Sonderbetriebsplanzulass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tärkere Bindungswirkung des Planfeststellungsbeschluss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indungswirkung gegenüber Betriebsplanverlängerungen?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Nachträgliche Änderungen, Auflagen und Aufheb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Befristung, § 52 Abs. 2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79280" y="1044720"/>
            <a:ext cx="96854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Materielle Zulassungsvoraussetz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5 BBerg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  Nachweis der Berecht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verlässigkeit, Fachkunde, körperliche Eig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triebssicherheit und Arbei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Lagerstätten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Oberflächen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Ordnungsgemäße Abfallbeseit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Wiedernutzbarmachung der Oberfläch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chutz anderer Bergbau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chutz vor gemeinschädlichen Einwirkun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satzbestimmungen für Festlandsockel und Küstengewä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satzbestimmungen für Abschlussbetriebs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179280" y="1044720"/>
            <a:ext cx="968544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öffentlich-rechtliche Vorschriften, Verweis in § 48 Abs. 1 S. 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Rohstoffsicherungsklausel, § 48 Abs. 1 S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tz überwiegender öffentlicher Interessen,§48 Abs. 2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"Öffnungsklausel"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wendbarkeit im Betriebsplan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 Ermessen, sondern Abwägung der gegenläufigen Intere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Gesamtabwägung bei zu erwartender Grundabtre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ungsrechtliche Vorgab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rgebnisse eines Raumordnungsverfahre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raunkohlen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Raumordnungs- und Bauleitplä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179280" y="1044720"/>
            <a:ext cx="96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6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ventionelles Betriebsplanverfahr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Ablauf des Verfahren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teiligungserfordernis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hörden, § 5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meinden als Planungsträger, § 5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erflächeneigentüm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offe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legung, § 48 Abs. 2 S. 2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79280" y="1044720"/>
            <a:ext cx="968544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 und Inhalt der Zulassungsentschei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Verwaltungsakt, § 56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Neben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Nachträgliche Auflagen, § 56 Abs. 1 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Sicherheitsleistung, § 56 Abs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Ggf. Begrün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   Versagung der 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179280" y="1044720"/>
            <a:ext cx="968544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sverfahr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7 c i.V.m. UVP-V Bergbau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Ggf. Vorprüfung des Einzelfalles, § 3 a  ff. UVP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Wesentliche Änderungen, § 52 Abs. 2 c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Übergangsrege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79280" y="1044720"/>
            <a:ext cx="9685440" cy="50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Planfeststellung und Umweltverträglichkeitsprü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Rechtscharakter der UV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selbständiger Verfahrensschrit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zusätzlichen materiellen Zulassungsvoraussetz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Integration der UVP in das Planfeststellungs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Gestufte UVP bei vorgeschalteten Raumordnungs- od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unkohlenplan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Ablauf des Planfeststellungsverfahre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Ggf. Screening, § 3 a ff.UVP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Verlangen eines Rahmenbetriebsplans, § 52 Abs. 2a  S. 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Scoping, § 52 Abs. 2 a 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11280" y="1187280"/>
            <a:ext cx="9001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5872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.  Zuordnung zu Rechtsgebiet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 Privat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Bergschadensrecht, §§ 114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Regelungen über bergrechtliche Nachbarschaftsverhältniss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.B. §§ 42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Wirkung vo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Öffentliches Re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Gefahrenabwehr, §§ 69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Erteilung von Bergbauberechtigungen, §§ 6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 Betriebsplanrecht, §§ 50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)  Arbeitsschutz, z.B. § 6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0" y="900000"/>
            <a:ext cx="8569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79280" y="1044720"/>
            <a:ext cx="96854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d)  Vorlage des Rahmenbetriebsplans, § 57 a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der Träger öffentlicher Belange, § 73 Abs. 2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hö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emein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gf. grenzüberschreitende Behördenbeteil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der anerkannten Naturschutzvereinigungen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63 BNatSchG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79280" y="1116000"/>
            <a:ext cx="9685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 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Öffentlichkeitsbeteiligung, § 73 Abs. 3 – 9 VwVfG;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Öffentliche Bekanntmach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sle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wendungsmöglichk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rörterungstermi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)    Berücksichtigung der Ergebnisse der UVP, § 57 a Abs. 4 S. 3 BBerg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sbeschluss, §74 Abs. 1 VwVf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900000"/>
            <a:ext cx="8569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79280" y="1044720"/>
            <a:ext cx="968544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Planfeststellungsbeschluss, § 74 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Form und Inhalt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Rechtswirkung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onzentrationswirkung , § 75 Abs. 1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Präklusionswirkung, § 73 Abs. 4 S. 3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75 abs. 2 VwVfG, 57 a Abs. 5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Feststellungswirk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eine enteignungsrechtliche Vorwirk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ßerkrafttreten, § 75 Abs. 4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0" y="900000"/>
            <a:ext cx="8569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179280" y="1044720"/>
            <a:ext cx="9685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Weitere Besonderhei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ulassung des vorzeitigen Beginns, § 57 b Abs. 1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Stufenweise Planfeststellung, § 52 Abs. 2 b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Vorbescheid, Teilgenehmigung, § 57 b Abs. 2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Vorbehalt der abschließenden Entscheid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 Folgemaßnahmen, § 57 b Abs. 3 S. 3 BBerg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900000"/>
            <a:ext cx="8569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79280" y="1044720"/>
            <a:ext cx="96854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ühe Öffentlichkeitsbeteiligung, § 25 Abs. 3 VwVfG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eiligung durch Vorhabenträger auf Anregung der 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Bei Planungen, die nicht nur wesentliche Auswirkungen auf Belange einer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größere Zahl von Dritten haben kön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0" y="900000"/>
            <a:ext cx="8569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179280" y="1044720"/>
            <a:ext cx="9685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schutz im Betriebsplanverfahren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Allgemeine Grunds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Drittschutz von Gemein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ungshoh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gemeindliche Belan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Drittschützende Norm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rechtliche Zulassungsvoraussetzungen, § 55 Abs. 1 S. 1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sätzlich  ne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 Verbot gemeinschädlicher Auswirkungen,    § 55 Abs. 1 S. 1 Nr. 9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0" y="1044720"/>
            <a:ext cx="856944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179280" y="1044720"/>
            <a:ext cx="968544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c)     Vorsorge gegen Gefahren für Leben und Gesundheit,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5 Abs. 1 S. 1 Nr. 3: ja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Vorsorge gegen Gefahren für außerbetriebliche Sachgüter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5 Abs. 1 S. 1 Nr. 3. wohl j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 Schutz überwiegender öffentlicher Interessen, § 48 Abs. 2 S. 1: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a, für Oberflächeneigentümer, wenn mit mehr als nur kleinen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oder mittleren Schäden zu rechnen ist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       Beteiligungs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      UVP – insbesondere Art. UVP-Richtlin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604880" indent="-34272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lphaLcParenR" startAt="8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mwelt-Rechtsbehelfsgesetz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604880" indent="-34272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lphaLcParenR" startAt="8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t. 9 Aarhus-Konventio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179280" y="1044720"/>
            <a:ext cx="968544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en des Drittschutz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Einwendungs- oder Rechtsbehelfsverzi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Präklusio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 Rech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s Unternehmer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die Versagung einer Betriebsplanzulassung/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i Untätigkeit der Behörd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79280" y="1044720"/>
            <a:ext cx="968544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belastende Neben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nachträgliche Aufla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die Aufhebung einer Betriebsplanzulassung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Von Gemeinden und Betroffe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Gegen die Erteilung ein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Besonderheiten durch Verfahrensstu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Der anerkannten Umweltvereinigungen, § 64 BNatSchG, § 2 UmwR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Einstweiliger Rech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0" y="1044720"/>
            <a:ext cx="986472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. Abschlussbetriebspla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Rechtsgrundlagen für den Abschlussbetriebsplan sowie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Beendigung der Bergaufsicht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Verfahrensrechtliche Ein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gabe des Abschlussbetriebspla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etzliche Grundlagen für die Bergaufsicht §§ 69 ff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finition des Begriffs "Bergbau"; Ableitung über § 2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ltungsbereich des Bundesberggesetzes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dernutzbarmachung der Oberfläche, der vom Bergbau in Anspru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nommenen Bereiche als Teil des Geltungsbereiches d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ndesberggesetzes (§ 2 Abs. 1 Nr. 2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aufsicht = Betriebs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611280" y="1091160"/>
            <a:ext cx="9074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25000"/>
              </a:lnSpc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storische Bezüg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Landesherrliches Bergrega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rektionsprinzi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tümerbergba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rgwerkseigentum alten Rechts, preuß. Allg. Berggesetz (prAB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unbefriste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keine Förderabga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 UVP-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 Änderungsbestrebun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0" y="1044720"/>
            <a:ext cx="986472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0" y="1044720"/>
            <a:ext cx="98647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Ende der Berg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endigung der Bergaufsicht nach Durchführung d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es (§ 69 Abs. 2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71 Abs. 3 "Anordnung und Erfüllung von Maßnahm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nach § 55 Abs. 2"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 grundsätzliche Voraussetzungen für die Beendigung der Berg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Durchführung des Abschlussbetriebsplans oder der entsprechen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Anordnungen der Bergbehörd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Feststellung, dass nach allgemeiner Erfahrung nicht mehr damit zu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rechnen ist, dass durch den Betrieb verursachten Gefahr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(der im Gesetz näher erläuterten Art) eintreten werden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0" y="1044720"/>
            <a:ext cx="986472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  <a:p>
            <a:pPr lvl="2" marL="358920" algn="just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0" y="1044720"/>
            <a:ext cx="9864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  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lass für die Aufstellung eines Abschlussbetriebspla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stellung eines Betriebes (§ 53 Abs. 1)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triebsunterbrechung länger als zwei Jahr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§ 55 Abs. 2 am Ende i.V.m. § 52 Abs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etzliche Anforderungen an einen Abschlussbetriebspla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llgemeine Vorgaben nach § 55 Abs. 1 Nr. 3 bis 1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(geltend für Betriebspläne allgemein)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sondere Anforderungen für Abschlussbetriebsplä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1044720"/>
            <a:ext cx="98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1612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0" y="1044720"/>
            <a:ext cx="9864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e)    -   Angaben über Beseitigung betrieblicher Anlagen und Einrich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bzw. über deren anderweitige Verwendung (§ 53 Abs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chutz Dritter vor den durch den Betrieb verursachten Gefahren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Leben und Gesundheit auch noch nach Einstellung des Betrieb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(§ 55 Abs. 2 Nr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icherstellung der Wiedernutzbarmachung der Oberfläche bezügli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der vom einzustellenden Betrieb in Anspruch genommenen Fläch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0" y="1044720"/>
            <a:ext cx="98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1612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0" y="1044720"/>
            <a:ext cx="9864720" cy="43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f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am Abschlussbetriebsplanverfahren (§ 54 Abs.2 sow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allgemeinen Maßgaben des Verwaltungsverfahrensgesetzes 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wV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hörden sind zu beteiligen, soweit durch den Abschlussbetriebspla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ihre Aufgabenbereiche berührt werden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emeinden sind zu beteiligen, soweit ihre Planungshoheit berührt wird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mfasst der Verfahrensbereich Flächen Dritter, kommt eine Hinzu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ziehung dieser Eigentümer gemäß § 13 Abs. 2 VwVfG in Betracht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ine konzentrierende Wirkung der Abschluss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Ende der Bergaufsicht kraft Gesetzes oder durch Verwaltungsakt?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0" y="1044720"/>
            <a:ext cx="9864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0" y="1044720"/>
            <a:ext cx="9864720" cy="54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Verfahrensstufen und Verfahrensgestaltung, § 5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riebseinstellung bei großen komplexen Bergbaubetrieb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Abschlussbetriebsplan für den untertägigen Bereich eines Bergbaubetrieb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ßnahmen im Bereich des Grubengebäud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üllung von Schäch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serhal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Abschlussbetriebsplan für den übertägigen Bereich eines Bergbaubetrieb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bruchbetriebs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 für die Fläche und den Boden mit Gefährd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ätzung ggf. Sanierungsmaßnahmen und Wiedernutzbarmach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Oberfläch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Zulässigkeit einer Verfahrensabstufung, § 53 Abs. 1 Satz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0" y="1044720"/>
            <a:ext cx="9864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0" y="1044720"/>
            <a:ext cx="98647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   Wiedernutzbarmachun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Definition § 4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Öffentliches Interes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Planungs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Sonderproblem Denkmal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grenzung Wiedernutzbarmachung/Folgenutz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V.    Gefahrenabwehr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tlastenproblematik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Anwendbarkeit Bundesbodenschutzgesetz/Landesbodenschutzgese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Nutzungsbezogene Betrachtungswei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0" y="1044720"/>
            <a:ext cx="9864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0" y="1044720"/>
            <a:ext cx="9864720" cy="47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wasser/Oberirdische Gewä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Wasserhaushaltsgesetz/Landeswassergese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Vorsorgeprinzip und Minimierungsgebot (§ 1a Abs. 1 und 2 WH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fallproblematik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Kreislaufwirtschafts- und Abfallgesetz (KrW-/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snahmeklausel § 2 Abs. 1 Nr. 4 KrW-/Ab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nwendung der materiellen Vorgaben des Abfall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Landesabfallgesetz (L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Zuständigkeit der Bergbehörde für die der Bergaufs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unterliegenden Betriebe (§ 34 Abs. 2 L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eine Andienungspflicht an kommunale Entsorgungsträg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79280" y="1044720"/>
            <a:ext cx="96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8080" y="1647360"/>
            <a:ext cx="87224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.  Verantwortliche Personen, §§ 58 ff. BBErgG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Träger bergrechtlicher Veranwor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stellung verantwortlicher Perso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Rechtliche Bedeutung der Bestell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strafrechtliche Bedeu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Aufsichts-, Kontroll- und Koordinierungspflicht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179280" y="1044720"/>
            <a:ext cx="968544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Probleme des Alt-Bergbaus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Bergschadenshaf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Ordnungsrechtliche Haftung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Verjährungsfra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Besonderheiten des Braunkohlen-Altbergbaus in 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uen Bundesländer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Sanierungs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Verantwortlichkeit und Organisation des Sanierungsbergbau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Verwaltungsabkommen Altlastenfinanzier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Strafrechtliche Proble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  Verkehrssicherungs- und Ordnungspfli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179280" y="1044720"/>
            <a:ext cx="9685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.       Bergschadensrecht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Verhältnis zum Betriebsplanrecht (Moers-Kapellen-Entschei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s Bundesverwaltungsgerichts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Vermeidung von Bergschäden (Anpassungs- und Sicherungsmaßnah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uwarnung)  §§ 110 – 11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Schutzumfang, § 11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Gefährdungshaftung, Bergschadensvermutung, § 12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Haftungsschuldner, §§115, 116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  Haftungsumfang, § 117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7.   Bergschadensverzi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611280" y="1490400"/>
            <a:ext cx="8713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lvl="1" marL="1246320" indent="-609840">
              <a:lnSpc>
                <a:spcPct val="125000"/>
              </a:lnSpc>
              <a:tabLst>
                <a:tab algn="l" pos="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  <a:tab algn="l" pos="64008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ck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Förderung der Rohstoffgewinnung (§ 1 Nr. 1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.  Sicherheit der Betriebe und der Beschäftigten (§ 1 Nr. 2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3.  Gefahrenabwehr und Schadensausgleich (§ 1 N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3)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.     Geltungsbereich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Tätigkeitsbezug (§ 2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2.   Bergbauliche Tätigkeit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246320" indent="-609840">
              <a:lnSpc>
                <a:spcPct val="125000"/>
              </a:lnSpc>
              <a:tabLst>
                <a:tab algn="l" pos="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  <a:tab algn="l" pos="6400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Aufsuchung, § 4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Gewinnung, § 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Aufbereiten, § 4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179280" y="1044720"/>
            <a:ext cx="96854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jährungsfragen, § 117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schadensausfallkasse, § 120 f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.  Aktuell: Haftung für Bergschäden aus Alt-Bergbau Geltung d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. Allg. Berggesetzes (prABG) und Vorläuf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1.  Verhältnis zum Ausgleichsanspruch nach § 24 Abs. 2 BBodSch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179280" y="1044720"/>
            <a:ext cx="968544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.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abtretung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echtigung, § 77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genstand, § 78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aussetzungen, § 79, insbesondere Gesamtabwägung i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verfahr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ahren, Entschädigung, vorzeitige Besitzeinwei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179280" y="1044720"/>
            <a:ext cx="968544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fugnisse der Bergaufsicht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Behördenstruktu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rgaufsicht als Genehmigungs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Bergaufsicht als Ordnungs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Bergaufsicht als Hilfsbeamte der Staatsanwaltschaf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179280" y="1044720"/>
            <a:ext cx="968544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reislaufwirtschaft, Abfallrecht und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baulicher Versatz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  Abgrenzung Bergrecht – Abfallrecht – Kreislaufwirtschaftsrecht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 Behandlung bergbaulicher Abfäll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sherige Rechtsla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chtlinie bergbauliche Abfäll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22a Allgemeine Bundesbergver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Kategorien von Bergbau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Materielle Anforder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79280" y="1044720"/>
            <a:ext cx="96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6" name="Rectangle 9"/>
          <p:cNvSpPr/>
          <p:nvPr/>
        </p:nvSpPr>
        <p:spPr>
          <a:xfrm>
            <a:off x="675720" y="1344960"/>
            <a:ext cx="789624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d)   Verfahrensrechtliche Anforderungen an di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zulassung von Bergbau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Abfallwirtschaftspla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Versatz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 über den Versatz von Abfällen unter Tag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ststoffverwertung/Technische Regel “Versatz”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tertage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611280" y="1077480"/>
            <a:ext cx="871380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Bergbauliche Tätigkeit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erfasste Nebentätigkei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vorbereitende Gewinnungshand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iedernutzbarmachung, § 4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triebsanlagen und Betriebseinrichtungen, § 2  Abs. 1 Nr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 sonstige Tätigkeiten (§ 2 Abs. 2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  Steine und Erden: teilweise Abgrabungsre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252360" y="925920"/>
            <a:ext cx="943308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4240" indent="-533160">
              <a:lnSpc>
                <a:spcPct val="125000"/>
              </a:lnSpc>
              <a:spcAft>
                <a:spcPts val="300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rgbauberechtigunge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125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10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schätz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Definition in § 3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Alle mineralischen Rohstoffe in festem oder flüssigem Zustand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Gase, die in natürlichen Ablagerungen oder Ansamm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der auf der Erde oder im oder unter dem Meer vorkom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Ausnahme Wa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Das Bergrecht kennt drei Kategorien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rgfreie Bodenschätze, § 3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Grundeigene Bodenschätze, die unter das Bergrecht fallen, § 3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onstige grundeigene 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Abgrabungsrecht, kein Bergrecht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0" y="525600"/>
            <a:ext cx="961236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Bestimmung in § 3 Abs. 2 Satz 2, Abs. 3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ergfreie Bodenschätze sind vom Grundeigentum unabhängig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Im wesentlichen Aufzählung in § 3 Abs. 3 (Besonderheiten 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 neuen Ländern). Bergfreie Bodenschätze sind hauptsäch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, Steinkohle, Braunkohle, Salze, Erdöl, Erdgas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 Bestimmte Bodenschätze gelten als bergfrei (§ 3 Abs. 3 Satz 2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BBergG); Festlandsockel, Küstengewässer, Erdwär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 Besonderheit Kohlenwasserstoffe, Kohle: Einordnung der Gas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ubengas, Flözgas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özgasgewinnung in Steinkohlenrevie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)    Besonderheit Küstengewässer, Festlandsock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)    Besonderheit Erdwär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4:29:58Z</dcterms:created>
  <dc:creator>Holger Seier</dc:creator>
  <dc:description/>
  <dc:language>en-US</dc:language>
  <cp:lastModifiedBy>K028176</cp:lastModifiedBy>
  <cp:lastPrinted>2005-10-13T16:19:43Z</cp:lastPrinted>
  <dcterms:modified xsi:type="dcterms:W3CDTF">2016-05-31T08:23:34Z</dcterms:modified>
  <cp:revision>156</cp:revision>
  <dc:subject/>
  <dc:title>DSK Musterfoliensatz</dc:title>
</cp:coreProperties>
</file>