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</p:sldIdLst>
  <p:sldSz cx="9864725" cy="684053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717120" y="744120"/>
            <a:ext cx="5365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6DF6-921B-4ADD-86EB-52EE6D5E95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13B-E2A9-466F-96BB-3D027E90F00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B9AB-E552-48D0-8A45-035724C3637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185-547B-4EC7-B293-4736BAE8BF8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A0D-8C3D-4101-9DA0-428A52B435F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FFFC-D6A1-4F82-BE98-B723BF7760C5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022F-766B-47AE-82A4-B4C760DC439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CC0-ADA1-490B-A74C-E83E98AFD98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119-C22E-432E-81AF-648EF150965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6B8-1875-4A5B-A7CF-A2A556D3408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9BA-FBAE-4748-9224-8F9A9D95A5C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1B98-49D9-47B3-A6E4-3579DB7AB955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62C-2152-445B-AE38-63E121DFE077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6466-299F-4D4E-9D27-AC124D9D204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F24-A96A-4488-B5AB-51E945831BF5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BA0C-D552-492E-A181-804BC0585D5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FD2-B859-4996-8530-BA6F0FCD8B1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D44B-B5AE-410B-B60C-FAE00FE70E1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158A-0EDC-49E1-9C73-FB370E6DB2B5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395-4F74-4BA6-883A-57FCA17B71A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2518-D8DB-4FAC-9777-73A1145A752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B9F9-5774-44F2-B611-602015802AA2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7C8-4AC3-4F6C-B052-D99CF9BB5B2D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9DA-8288-4BA4-9977-830107F7BD2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BF1-2C81-4EAD-850E-E513DE4A4E4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CA57-04DF-4E81-9DB9-66F62BF89FCF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526-C212-4A1C-BC5D-DCD656500EA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BD59-C55B-4F82-AF93-0B034DF56B1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95B-4D0A-4D1B-84F6-6A0E9BE2F142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3D84-D391-4624-AD1F-A2D1D8B6F2B8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F20-6113-4756-8FF1-69B4FF57B58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F9F-C805-4DE2-ADA4-66294853E1D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4EF5-0E60-405E-9EA3-33D621500C6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AB1A-EA20-4E62-871E-22C95D7D8FB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09D-1A39-4F08-A3D1-6F5A980A6CE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480-EEA0-4BD8-A14E-DAC385C336C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398-4F2D-49AD-B6E6-734A8EE2FEA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4B27-D4F8-4715-84EC-4C4DCDD903D4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F84-7699-42BA-8D44-14E81E240F6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0238-267B-40A2-8BC4-26468CBB9556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172-3C04-4A71-BA95-D17C7A2125F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21B6-AF2B-4E73-8F16-5D8C061453C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C3D-CD76-496B-835F-4F1D329DC48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80AD-CF44-4325-A64D-057BF16F6843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313-B9BC-481B-8472-3C860389EA3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6676-CC2E-46C5-B43E-0C17B64A70CE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AC1E-9E3E-4361-9964-18D030A0F663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8B4-E47D-41CB-AB86-3382A0A2E6A0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8C0-F71E-4240-A072-EC961EAF851C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BC8-D562-42C9-B53A-173B90D53BDA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1CC0-2726-491B-9FFD-0D11ECFB831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F64B-CABA-44A3-BD3D-E146701CF82B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246-A0F2-4FFA-81A3-C01920ABA984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16C3-89AF-467C-94E3-7400ACCECBB9}" type="slidenum">
              <a:rPr b="0" lang="de-DE" sz="1200" spc="-1" strike="noStrike">
                <a:solidFill>
                  <a:srgbClr val="1225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717480" y="744480"/>
            <a:ext cx="5365800" cy="37227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93200" y="272880"/>
            <a:ext cx="88772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Aft>
                <a:spcPts val="68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" y="3672720"/>
            <a:ext cx="8877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2160" y="160056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320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2160" y="3672720"/>
            <a:ext cx="4331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488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96560" y="160056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320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488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96560" y="3672720"/>
            <a:ext cx="2858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Aft>
                <a:spcPts val="689"/>
              </a:spcAft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5000"/>
              </a:lnSpc>
              <a:spcAft>
                <a:spcPts val="689"/>
              </a:spcAft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369BE8F1-CA51-4D98-9ECE-2D05CD2D6B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27C1F02E-CBED-4ACC-808B-02C4F2840B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9AFAD633-51B6-4FE9-A0D6-CF1FA40D7C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179280" y="64450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2484360" y="6408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   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8585280" y="64450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78F35F71-D116-4260-BABA-B250F10BC9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360360" y="77472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41240" y="6407280"/>
            <a:ext cx="8763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5940360" y="6445080"/>
            <a:ext cx="367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79280" y="6445080"/>
            <a:ext cx="9145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September 2014 Forum-Lehrgang Bergrecht         </a:t>
            </a:r>
            <a:r>
              <a:rPr b="0" lang="de-DE" sz="1400" spc="-1" strike="noStrike">
                <a:solidFill>
                  <a:srgbClr val="12254c"/>
                </a:solidFill>
                <a:latin typeface="Arial"/>
              </a:rPr>
              <a:t>Zentralbereich Recht/Compliance ZV 5</a:t>
            </a:r>
            <a:endParaRPr b="0" lang="en-US" sz="14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539640" y="1260360"/>
            <a:ext cx="932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12254c"/>
              </a:buClr>
              <a:buFont typeface="Arial"/>
              <a:buAutoNum type="alphaU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12254c"/>
                </a:solidFill>
                <a:latin typeface="Arial"/>
              </a:rPr>
              <a:t>Bergrecht im deutschen Rechtssyste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buClr>
                <a:srgbClr val="12254c"/>
              </a:buClr>
              <a:buFont typeface="Arial"/>
              <a:buAutoNum type="romanU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Bergrecht als Sonderrecht des Bergbaus = Geltungsbereich des BBergG</a:t>
            </a:r>
            <a:br>
              <a:rPr sz="1800"/>
            </a:b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II.</a:t>
            </a: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12254c"/>
                </a:solidFill>
                <a:latin typeface="Arial"/>
              </a:rPr>
              <a:t>Zuordnung zu Rechtsgebieten</a:t>
            </a:r>
            <a:br>
              <a:rPr sz="1800"/>
            </a:b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buClr>
                <a:srgbClr val="12254c"/>
              </a:buClr>
              <a:buFont typeface="Arial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Privat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a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Bergschadensrecht, §§ 114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Regelungen über bergrechtliche Nachbarschaftsverhältnisse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z.B. §§ 42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Wirkung vo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E9B2E9BB-2439-4670-B4BC-C021889747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" y="272880"/>
            <a:ext cx="8877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3200" y="1600560"/>
            <a:ext cx="8877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>
              <a:lnSpc>
                <a:spcPct val="125000"/>
              </a:lnSpc>
              <a:spcAft>
                <a:spcPts val="689"/>
              </a:spcAft>
              <a:buSzPct val="100000"/>
              <a:buBlip>
                <a:blip r:embed="rId2"/>
              </a:buBlip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7000">
              <a:lnSpc>
                <a:spcPct val="125000"/>
              </a:lnSpc>
              <a:spcAft>
                <a:spcPts val="624"/>
              </a:spcAft>
              <a:buSzPct val="100000"/>
              <a:buBlip>
                <a:blip r:embed="rId3"/>
              </a:buBlip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lnSpc>
                <a:spcPct val="125000"/>
              </a:lnSpc>
              <a:spcAft>
                <a:spcPts val="561"/>
              </a:spcAft>
              <a:buSzPct val="100000"/>
              <a:buBlip>
                <a:blip r:embed="rId4"/>
              </a:buBlip>
              <a:tabLst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7960">
              <a:lnSpc>
                <a:spcPct val="125000"/>
              </a:lnSpc>
              <a:spcAft>
                <a:spcPts val="1125"/>
              </a:spcAft>
              <a:buClr>
                <a:srgbClr val="000000"/>
              </a:buClr>
              <a:buSzPct val="50000"/>
              <a:buFont typeface="Arial"/>
              <a:buChar char="–"/>
              <a:tabLst>
                <a:tab algn="l" pos="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6520">
              <a:lnSpc>
                <a:spcPct val="125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Arial"/>
              <a:buChar char="»"/>
              <a:tabLst>
                <a:tab algn="l" pos="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6520">
              <a:spcBef>
                <a:spcPts val="451"/>
              </a:spcBef>
              <a:buClr>
                <a:srgbClr val="12254c"/>
              </a:buClr>
              <a:buSzPct val="4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6520">
              <a:spcBef>
                <a:spcPts val="451"/>
              </a:spcBef>
              <a:buClr>
                <a:srgbClr val="12254c"/>
              </a:buClr>
              <a:buSzPct val="4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8CBA1FA1-A480-4C2D-8D8D-2572048323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19763872-7AEF-477E-A285-8C64EC1338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446764D8-05F7-4031-86E0-429858C6D2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BE6388B6-6F12-462A-9EDC-4E4AD5DBBC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A93F19F7-90F1-4909-854F-D9DCD8CFC1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379440" y="3421080"/>
            <a:ext cx="2200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>
              <a:spcBef>
                <a:spcPts val="1312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60360" y="809640"/>
            <a:ext cx="9144000" cy="54000"/>
          </a:xfrm>
          <a:prstGeom prst="rect">
            <a:avLst/>
          </a:prstGeom>
          <a:gradFill rotWithShape="0">
            <a:gsLst>
              <a:gs pos="0">
                <a:srgbClr val="aeaeae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60360" y="6407280"/>
            <a:ext cx="914400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ae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52360" y="64450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i 2016</a:t>
            </a:r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411280" y="6410160"/>
            <a:ext cx="58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r. Harald Knöche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8658360" y="64450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att </a:t>
            </a:r>
            <a:fld id="{F4466EC9-ED21-4E76-BB92-15918AA70A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493560" y="1595520"/>
          <a:ext cx="8877600" cy="4514760"/>
        </p:xfrm>
        <a:graphic>
          <a:graphicData uri="http://schemas.openxmlformats.org/drawingml/2006/table">
            <a:tbl>
              <a:tblPr/>
              <a:tblGrid>
                <a:gridCol w="4438800"/>
                <a:gridCol w="4438800"/>
              </a:tblGrid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54000"/>
                          <a:tab algn="l" pos="1908000"/>
                          <a:tab algn="l" pos="2862360"/>
                          <a:tab algn="l" pos="3816360"/>
                          <a:tab algn="l" pos="4770360"/>
                          <a:tab algn="l" pos="5724360"/>
                          <a:tab algn="l" pos="6678720"/>
                          <a:tab algn="l" pos="7632720"/>
                          <a:tab algn="l" pos="8586720"/>
                          <a:tab algn="l" pos="9540720"/>
                          <a:tab algn="l" pos="10495080"/>
                        </a:tabLst>
                      </a:pPr>
                      <a:endParaRPr b="0" lang="en-US" sz="1800" spc="-1" strike="noStrike">
                        <a:solidFill>
                          <a:srgbClr val="12254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tangle 28"/>
          <p:cNvSpPr/>
          <p:nvPr/>
        </p:nvSpPr>
        <p:spPr>
          <a:xfrm>
            <a:off x="468360" y="1187280"/>
            <a:ext cx="88772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uhr-Universität Bochum</a:t>
            </a:r>
            <a:endParaRPr b="0" lang="en-US" sz="32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Bergrecht und </a:t>
            </a: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untertägige Nutzungen </a:t>
            </a:r>
            <a:endParaRPr b="0" lang="en-US" sz="36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324000" y="1389240"/>
            <a:ext cx="885636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146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Abs. 4 zählt die unter das Regime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enden grundeigenen Bodenschätze enumerativ auf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Einzelne Bodenschätze, § 3 Abs. 4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lle übrigen Bodenschätze, soweit untertägige Aufsuch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oder Gewinnung, § 3 Abs. 4 Nr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ige Steine und E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weit übertägig, keine Anwendung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ndersituation neue Länder  (s. unt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4"/>
          <p:cNvSpPr/>
          <p:nvPr/>
        </p:nvSpPr>
        <p:spPr>
          <a:xfrm>
            <a:off x="324000" y="1364040"/>
            <a:ext cx="885636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146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Abs. 4 zählt die unter das Regime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enden grundeigenen Bodenschätze enumerativ auf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Einzelne Bodenschätze, § 3 Abs. 4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lle übrigen Bodenschätze, soweit untertägige Aufsuch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oder Gewinnung, § 3 Abs. 4 Nr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stige Steine und E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weit übertägig, keine Anwendung des Berg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146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Sondersituation neue Länder  (s. unt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684360" y="1176840"/>
            <a:ext cx="828036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809640" algn="ctr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en der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liche Bedeutung des Berechtsamwesens fü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Öffentlich-rechtliches Konzessionssystem (Verbot mi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nisvorbehalt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aubnis; § 7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illigung, § 8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werkseigentum, § 9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istung, § 16 Abs. 5, Widerruf, § 18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te Rechte, §§ 149, 15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80964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grenzung zu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graphicFrame>
        <p:nvGraphicFramePr>
          <p:cNvPr id="527" name="Object 7"/>
          <p:cNvGraphicFramePr/>
          <p:nvPr/>
        </p:nvGraphicFramePr>
        <p:xfrm>
          <a:off x="395280" y="971640"/>
          <a:ext cx="85154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1640"/>
                    <a:ext cx="85154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0"/>
          <p:cNvSpPr/>
          <p:nvPr/>
        </p:nvSpPr>
        <p:spPr>
          <a:xfrm>
            <a:off x="611280" y="971640"/>
            <a:ext cx="900108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Anspruch auf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nspruch auf Erteilung von Bergbauberechtigun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(gebundene “Erlaubnis”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Versagungsgründe, §§ 11 bis 13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Verfahren  a)  Antrags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Behördenzuständigkeiten, Beteiligung von Fachbehörd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Verfahrensbeschleun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Beteiligung Dritter, § 15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981080" indent="-2775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Rechtsmitt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graphicFrame>
        <p:nvGraphicFramePr>
          <p:cNvPr id="533" name="Object 6"/>
          <p:cNvGraphicFramePr/>
          <p:nvPr/>
        </p:nvGraphicFramePr>
        <p:xfrm>
          <a:off x="395280" y="971640"/>
          <a:ext cx="85154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1640"/>
                    <a:ext cx="85154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7"/>
          <p:cNvSpPr/>
          <p:nvPr/>
        </p:nvSpPr>
        <p:spPr>
          <a:xfrm>
            <a:off x="611280" y="971640"/>
            <a:ext cx="9001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spcAft>
                <a:spcPts val="125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ung von Bergbauberechtigungen (z. B. Veräußerun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Bergwerkseigentum), §§ 21 ff.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eiligung an der Aufsuchung, § 2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Übertragung der Erlaubnis, § 2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sübertragung (Überlassung zur Ausübung an Dritt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Veräußerung von Bergwerkseigentum; § 2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11280" y="1187280"/>
            <a:ext cx="8353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252360" y="981000"/>
            <a:ext cx="936000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urrierende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Anspruch auf Bewilligung aufgrund bestehender Erlaubni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Vorrang des Erlaubnisinhabers gegenüber Bewilligungsanträ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(§ 14 Abs. 1): Eintritts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Probleme: Rechtsschutz, Ermessen, Beurteilungsspielra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Konkurrenz gleichartiger Anträ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Ausschließlichkeitsgrundsa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Arbeitsprogramm; § 14 Abs. 2, Maßstab ist das “best wor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program” (Ausnahme: § 152 Abs. 2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Prioritätsgrundsatz bei gleichwertigen Anträ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684360" y="971640"/>
            <a:ext cx="86407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Beteiligung, § 2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Sonderregelung § 11 Nr. 5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Behandlung widerstreitender Intere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wissenschaftliche gewerbliche Zweck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Zulegung, § 35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Mitgewinnung von Bodenschätzen, Ausgleichspflicht, § 4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684360" y="971640"/>
            <a:ext cx="864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 der Bergbauberechtigung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neignungsre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er darf einen Rohstoff gewinnen und wer nicht?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Eigentum an Bergbaueinrichtungen (Tagesanlagen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Rechtsposition des Bergbauberechtigten gegenüber d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Oberflächeneigentüm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Gegenstand der Bewilligung bei der Erdöl- und Erdgasförder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Bohrlochprinzip vs. Lagerstättenprinzi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Feldesüberschreitende Lagerstät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684360" y="971640"/>
            <a:ext cx="8640720" cy="53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grundspeicher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nwendbarkeit bergrechtlicher 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§ 126 Abs. 1,3 (künftig auch Bergschadensrecht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keine Bergbauberechtigung erforder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Besonderheiten in den neuen Bundesländer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Verhältnis zum Oberflächeneigent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4360" y="971640"/>
            <a:ext cx="86407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Salzgewinnung bei der Herstellung von Kaver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Gewinnungsberechtigung erforderlich (objektiv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Gewinnungsbegriff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Häufig: alte Recht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Entnahme und Ableitung von Wasser zum Sol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447840" indent="18072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5"/>
          <p:cNvSpPr/>
          <p:nvPr/>
        </p:nvSpPr>
        <p:spPr>
          <a:xfrm>
            <a:off x="611280" y="971640"/>
            <a:ext cx="900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0480" indent="-41904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.    Bergrecht im deutschen Rechtssystem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grecht als Sonderrecht des Bergbaus =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76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9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haben, die zumindest teilweise in d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 fallen: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2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teinkohlen- und Braunkohlengewinn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Erdöl- und Erdgasgewinn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Methangasgewinnung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Erdwärmegewinnung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684360" y="971640"/>
            <a:ext cx="8640720" cy="58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II.  CO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equestration (CCS)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Hintergrund: Emissionshand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Zulässigkeit der CO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equestration na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tendem Recht?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 Kohlendioxid-Speicherungsgesetz vom 17.8.2012 (KSp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684360" y="971640"/>
            <a:ext cx="86407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X.  Bergbauberechtigungen in den neu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ndesländer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Rechtslage in der DDR vor 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Rechtsgrundla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Landesgesetze 1946-1948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erggesetz vom 12.05.1969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3. Durchführungsverordnung zum BergG  v. 12.8.197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Einteilung der mineralischen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BergG anwendbar auf sämtliche mineralische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odenschätze: mineralische Rohstoffe, deren Nutz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n volkswirtschaftlicher Bedeutung is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84360" y="971640"/>
            <a:ext cx="864072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Nicht erschöpfende Auflistung der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uletzt in 3. DVO zum BergG: sehr weit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ndere Rohstoffe ohne volkswirtschaftliche Bedeu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peicher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 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Volkseigentum an Bodenschätz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Volks- oder Privateigentum an anderen Rohstoff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tersuchungs-, Gewinnungs- und Speicherrecht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sätzlich staat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sübung durch staatliche Organe oder volkseige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e auf der Grundlage staatlicher Plankennziffern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84360" y="971640"/>
            <a:ext cx="86407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chtsänderungen 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     4. Durchführungsbestimmung zur Ver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über Gründung und Tätigkeit von Unternehmen m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ländischer Beteiligung in der DDR –Berechtigung zu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winnung mineralischer Rohstoffe v. 14.3.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  Verordnung über die Verleihung von Bergwerkseigentum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m 15.8.199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Einführung von Bergwerkseigentum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684360" y="971640"/>
            <a:ext cx="864072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Für bestimmte Bodenschätze (volkswirtschaftli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deutsame Rohstoffe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Einschließlich Speicher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Anwendbarkeit der Vorschriften über Grundstück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Auf Antrag Verleihung von  Bergwerkseigentum 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Treuhandanstal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Bergwerkseigentum gegen Entgelt weiter übertragba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Einigungsvertra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Umwandlung der (volkswirtschaftlich bedeutsa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denschätze in bergfreie 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Weiterer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684360" y="971640"/>
            <a:ext cx="8640720" cy="47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ch Speicherung geeignete Formatio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Gesteine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bweichung von der Rechtslage in alten Bundesländer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dere Rohstoffe werden grundeigene Bodenschätz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ine Grundeigentümer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frechterhaltung bestehender Bergbau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rgwerkseigentum von Treuhandanstalt und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ern gilt als Bergwerkseigentum i.S. d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151 BBergG unbefristet weit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Untersuchungs- und Speicherrechte gelten weiter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84360" y="971640"/>
            <a:ext cx="864072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meldung von Gewinnungs- und Speicherrech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s zum 4.4.199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rgwerkseigentum förderabgabefrei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Regelung vom BVerfG als verfassungsgemäß bestätig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684360" y="971640"/>
            <a:ext cx="86407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Gesetz zur Vereinheitlichung der Rechtsverhältniss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i Bodenschätzen vom 15.4.1996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Vereinheitlichung der Einteilung von Bodenschätz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 gesamten Bundesgebie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rundeigen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rundeigentümer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288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684360" y="36194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4360" y="971640"/>
            <a:ext cx="86407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tandsschutz fü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tehend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bauberechtigungen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stehende Rechte bleiben aufrechterhal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Übergeleitetes Bergwerkseigentum bleibt unbefristet und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förderabgabefrei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oweit und solange Berechtigungen aufrechterhalten werden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bleiben die Bodenschätze bergfrei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Fristverkürzung für Aufnahme der Aufsuchung bzw. Gewin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Verfassungsrechtliche Bewer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1685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179280" y="1044720"/>
            <a:ext cx="968544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pflicht und Betriebsplanzulassungsverfahre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 Betriebsplan, §§ 50 ff.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Funktionen des Betriebsplan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grenzung zu de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ücksichtigung der Sachgesetzlichkeiten des Bergbau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Lagerstättengebundenh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vorhersehbarkeit der geologischen Verhältnisse</a:t>
            </a:r>
            <a:br>
              <a:rPr sz="1800"/>
            </a:b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Dynamische Betriebswei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Wechselwirkungen zwischen Planung, Realisierung und weiterer 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ahrensstu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trument der behördlichen Überwach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in Instrument der Fach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gleich mit Anlagengenehm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zulassung und Grundabtre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5"/>
          <p:cNvSpPr/>
          <p:nvPr/>
        </p:nvSpPr>
        <p:spPr>
          <a:xfrm>
            <a:off x="395280" y="971640"/>
            <a:ext cx="9217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haben, die zumindest teilweise in d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ltungsbereich des BBergG fallen: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20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Gewinnung von Erzen, Kali- und Steinsalzen und bestimmter anderer nicht- energetischer Roh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Gewinnung hochwertiger Steine und Erd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Rohstoffgewinnung aus Hal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Erdgas- und Erdölspeicherung in Untergrundspeicher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Aussolen von Gesteinsformationen für Untergrundspeicher und für CC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Transit-Rohrleitungen im Bereich des Festlandsockel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buClr>
                <a:srgbClr val="12254c"/>
              </a:buClr>
              <a:buFont typeface="Arial"/>
              <a:buChar char="-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Erkundungsbergwerke zur Vorbereitung atomarer Endlag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Arial"/>
              </a:rPr>
              <a:t>-  Errichtung und Betrieb unterirdischer Anlagen zur Lagerung radioaktiver Stoff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90480" indent="-41904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79280" y="1044720"/>
            <a:ext cx="968544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Gegenstand des Betriebsplanes, § 51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2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such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winn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bereitungs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Tätigkeiten und Einricht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Untergrundspeicher, § 126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Endlagerung radioaktiver Abfälle, § 126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ohrungen, § 127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richtung, Betrieb, Einstell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freiung von der Betriebsplanpflicht, § 51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179280" y="1044720"/>
            <a:ext cx="968544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Arten von Betriebsplä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uptbetriebsplan, § 52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kultativer Rahmenbetriebsplan, § 52 Abs. 2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ligatorischer Rahmenbetriebsplan, § 52 Abs. 2 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nderbetriebsplan, § 52 Abs. 2 Nr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, § 5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meinschaftlicher Betriebsplan, § 52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179280" y="1044720"/>
            <a:ext cx="968544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Betriebsplanzulassun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Arten d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ventionelle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, § 57 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Rechtswirkungen d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bundene Kontrollerlaubnis, § 55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planerische Gestaltungsfreiheit der 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ch bei Planfeststellungsbeschlus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Gestattungswirk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ußer Rahmen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179280" y="1044720"/>
            <a:ext cx="968544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 c)    Verhältnis zu außerbergrechtlichen Genehmigungserforderni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geschränkte Konzentrationswirkung des Planfeststellungsbeschluss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Konzentrationswirkung anderer Betriebsplanzulass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ndungswirkung der Rahmen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geschränkte Bindungswirkung der Zulassung eines fakultativ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Rahmenbetriebsplanes gegenüber nachfolgenden Haupt- u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Sonderbetriebsplanzulass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tärkere Bindungswirkung des Planfeststellungsbeschluss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indungswirkung gegenüber Betriebsplanverlängerungen?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Nachträgliche Änderungen, Auflagen und Aufheb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Befristung, § 52 Abs. 2 Nr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79280" y="1044720"/>
            <a:ext cx="96854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Materielle Zulassungsvoraussetz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5 BBerg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  Nachweis der Berecht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verlässigkeit, Fachkunde, körperliche Eig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triebssicherheit und Arbei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Lagerstätten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Oberflächen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Ordnungsgemäße Abfallbeseit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Wiedernutzbarmachung der Oberfläch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chutz anderer Bergbaubetrie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Schutz vor gemeinschädlichen Einwirkun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satzbestimmungen für Festlandsockel und Küstengewä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Zusatzbestimmungen für Abschlussbetriebs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179280" y="1044720"/>
            <a:ext cx="968544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1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öffentlich-rechtliche Vorschriften, Verweis in § 48 Abs. 1 S. 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Rohstoffsicherungsklausel, § 48 Abs. 1 S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tz überwiegender öffentlicher Interessen,§48 Abs. 2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"Öffnungsklausel"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nwendbarkeit im Betriebsplan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 Ermessen, sondern Abwägung der gegenläufigen Interess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Gesamtabwägung bei zu erwartender Grundabtre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ungsrechtliche Vorgab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rgebnisse eines Raumordnungsverfahre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raunkohlen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113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Raumordnungs- und Bauleitplä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179280" y="1044720"/>
            <a:ext cx="96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6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ventionelles Betriebsplanverfahr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Ablauf des Verfahren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teiligungserfordernis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hörden, § 5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meinden als Planungsträger, § 5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berflächeneigentüm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offe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legung, § 48 Abs. 2 S. 2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79280" y="1044720"/>
            <a:ext cx="968544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 und Inhalt der Zulassungsentschei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Verwaltungsakt, § 56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Neben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Nachträgliche Auflagen, § 56 Abs. 1 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Sicherheitsleistung, § 56 Abs. 2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Ggf. Begrün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56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   Versagung der 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179280" y="1044720"/>
            <a:ext cx="968544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sverfahren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7 c i.V.m. UVP-V Bergbau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Ggf. Vorprüfung des Einzelfalles, § 3 a  ff. UVP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Wesentliche Änderungen, § 52 Abs. 2 c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Übergangsrege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79280" y="1044720"/>
            <a:ext cx="9685440" cy="50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Planfeststellung und Umweltverträglichkeitsprü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Rechtscharakter der UV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nselbständiger Verfahrensschrit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Keine zusätzlichen materiellen Zulassungsvoraussetz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Integration der UVP in das Planfeststellungs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Gestufte UVP bei vorgeschalteten Raumordnungs- od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raunkohlenplanverfah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0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Ablauf des Planfeststellungsverfahre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Ggf. Screening, § 3 a ff.UVP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Verlangen eines Rahmenbetriebsplans, § 52 Abs. 2a  S. 1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Scoping, § 52 Abs. 2 a 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995400" indent="174600">
              <a:lnSpc>
                <a:spcPct val="125000"/>
              </a:lnSpc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11280" y="1187280"/>
            <a:ext cx="9001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58720">
              <a:lnSpc>
                <a:spcPct val="130000"/>
              </a:lnSpc>
              <a:spcAft>
                <a:spcPts val="499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.  Zuordnung zu Rechtsgebiet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 Privat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Bergschadensrecht, §§ 114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Regelungen über bergrechtliche Nachbarschaftsverhältniss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.B. §§ 42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Wirkung von Bergbauberechtig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Öffentliches Re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Gefahrenabwehr, §§ 69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Erteilung von Bergbauberechtigungen, §§ 6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  Betriebsplanrecht, §§ 50 ff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558720" indent="-558720">
              <a:lnSpc>
                <a:spcPct val="130000"/>
              </a:lnSpc>
              <a:spcAft>
                <a:spcPts val="451"/>
              </a:spcAft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)  Arbeitsschutz, z.B. § 6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0" y="900000"/>
            <a:ext cx="8569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79280" y="1044720"/>
            <a:ext cx="96854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d)  Vorlage des Rahmenbetriebsplans, § 57 a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der Träger öffentlicher Belange, § 73 Abs. 2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hör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emein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gf. grenzüberschreitende Behördenbeteili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26216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der anerkannten Naturschutzvereinigungen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63 BNatSchG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900000"/>
            <a:ext cx="85694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79280" y="1116000"/>
            <a:ext cx="9685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 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Öffentlichkeitsbeteiligung, § 73 Abs. 3 – 9 VwVfG;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Öffentliche Bekanntmach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sleg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wendungsmöglichk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rörterungstermi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)    Berücksichtigung der Ergebnisse der UVP, § 57 a Abs. 4 S. 3 BBerg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feststellungsbeschluss, §74 Abs. 1 VwVf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900000"/>
            <a:ext cx="8569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79280" y="1044720"/>
            <a:ext cx="968544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Planfeststellungsbeschluss, § 74 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Form und Inhalt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Rechtswirkung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onzentrationswirkung , § 75 Abs. 1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Präklusionswirkung, § 73 Abs. 4 S. 3,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75 abs. 2 VwVfG, 57 a Abs. 5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Feststellungswirk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eine enteignungsrechtliche Vorwirk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ßerkrafttreten, § 75 Abs. 4 VwV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0" y="900000"/>
            <a:ext cx="8569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179280" y="1044720"/>
            <a:ext cx="9685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Weitere Besonderhei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ulassung des vorzeitigen Beginns, § 57 b Abs. 1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Stufenweise Planfeststellung, § 52 Abs. 2 b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  Vorbescheid, Teilgenehmigung, § 57 b Abs. 2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Vorbehalt der abschließenden Entscheid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 Folgemaßnahmen, § 57 b Abs. 3 S. 3 BBerg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0" y="900000"/>
            <a:ext cx="8569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79280" y="1044720"/>
            <a:ext cx="96854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rühe Öffentlichkeitsbeteiligung, § 25 Abs. 3 VwVfG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eiligung durch Vorhabenträger auf Anregung der 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Bei Planungen, die nicht nur wesentliche Auswirkungen auf Belange einer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größere Zahl von Dritten haben kön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0" y="900000"/>
            <a:ext cx="8569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179280" y="1044720"/>
            <a:ext cx="9685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7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I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rittschutz im Betriebsplanverfahren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Allgemeine Grunds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Drittschutz von Gemein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anungshohei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ere gemeindliche Belan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Drittschützende Norm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rechtliche Zulassungsvoraussetzungen, § 55 Abs. 1 S. 1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sätzlich  ne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  Verbot gemeinschädlicher Auswirkungen,    § 55 Abs. 1 S. 1 Nr. 9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0" y="1044720"/>
            <a:ext cx="856944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179280" y="1044720"/>
            <a:ext cx="968544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c)     Vorsorge gegen Gefahren für Leben und Gesundheit,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5 Abs. 1 S. 1 Nr. 3: ja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  Vorsorge gegen Gefahren für außerbetriebliche Sachgüter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55 Abs. 1 S. 1 Nr. 3. wohl ja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   Schutz überwiegender öffentlicher Interessen, § 48 Abs. 2 S. 1: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a, für Oberflächeneigentümer, wenn mit mehr als nur kleinen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oder mittleren Schäden zu rechnen ist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)       Beteiligungsre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      UVP – insbesondere Art. UVP-Richtlin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604880" indent="-34272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lphaLcParenR" startAt="8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mwelt-Rechtsbehelfsgesetz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604880" indent="-34272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lphaLcParenR" startAt="8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rt. 9 Aarhus-Konventio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179280" y="1044720"/>
            <a:ext cx="968544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en des Drittschutz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Einwendungs- oder Rechtsbehelfsverzi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Präklusio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 Rech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s Unternehmer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die Versagung einer Betriebsplanzulassung/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Bei Untätigkeit der Behörd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79280" y="1044720"/>
            <a:ext cx="968544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belastende Nebenbestimm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nachträgliche Aufla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Gegen die Aufhebung einer Betriebsplanzulassung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Von Gemeinden und Betroffe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Gegen die Erteilung einer 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 Besonderheiten durch Verfahrensstuf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Der anerkannten Umweltvereinigungen, § 64 BNatSchG, § 2 UmwR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  Einstweiliger Rechts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0" y="1044720"/>
            <a:ext cx="986472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. Abschlussbetriebspla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Rechtsgrundlagen für den Abschlussbetriebsplan sowie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Beendigung der Bergaufsicht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Verfahrensrechtliche Ein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fgabe des Abschlussbetriebspla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 algn="just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etzliche Grundlagen für die Bergaufsicht §§ 69 ff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finition des Begriffs "Bergbau"; Ableitung über § 2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ltungsbereich des Bundesberggesetzes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dernutzbarmachung der Oberfläche, der vom Bergbau in Anspruch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nommenen Bereiche als Teil des Geltungsbereiches d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undesberggesetzes (§ 2 Abs. 1 Nr. 2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aufsicht = Betriebs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611280" y="1091160"/>
            <a:ext cx="9074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25000"/>
              </a:lnSpc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storische Bezüg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Landesherrliches Bergrega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rektionsprinzip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rundeigentümerbergba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rgwerkseigentum alten Rechts, preuß. Allg. Berggesetz (prAB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unbefriste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keine Förderabgab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 UVP-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 Änderungsbestrebun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0" y="1044720"/>
            <a:ext cx="986472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7928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0" y="1044720"/>
            <a:ext cx="98647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Ende der Berg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endigung der Bergaufsicht nach Durchführung d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es (§ 69 Abs. 2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71 Abs. 3 "Anordnung und Erfüllung von Maßnahm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nach § 55 Abs. 2"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i grundsätzliche Voraussetzungen für die Beendigung der Bergaufsi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Durchführung des Abschlussbetriebsplans oder der entsprechen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Anordnungen der Bergbehörde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Feststellung, dass nach allgemeiner Erfahrung nicht mehr damit zu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rechnen ist, dass durch den Betrieb verursachten Gefahr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(der im Gesetz näher erläuterten Art) eintreten werden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0" y="1044720"/>
            <a:ext cx="986472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  <a:p>
            <a:pPr lvl="2" marL="358920" algn="just">
              <a:lnSpc>
                <a:spcPct val="136000"/>
              </a:lnSpc>
              <a:spcBef>
                <a:spcPts val="13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2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0" y="1044720"/>
            <a:ext cx="9864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  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lass für die Aufstellung eines Abschlussbetriebsplan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Einstellung eines Betriebes (§ 53 Abs. 1)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triebsunterbrechung länger als zwei Jahr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§ 55 Abs. 2 am Ende i.V.m. § 52 Abs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etzliche Anforderungen an einen Abschlussbetriebspla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allgemeine Vorgaben nach § 55 Abs. 1 Nr. 3 bis 13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(geltend für Betriebspläne allgemein),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sondere Anforderungen für Abschlussbetriebsplän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1044720"/>
            <a:ext cx="98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1612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0" y="1044720"/>
            <a:ext cx="9864720" cy="57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e)    -   Angaben über Beseitigung betrieblicher Anlagen und Einricht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bzw. über deren anderweitige Verwendung (§ 53 Abs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chutz Dritter vor den durch den Betrieb verursachten Gefahren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Leben und Gesundheit auch noch nach Einstellung des Betrieb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(§ 55 Abs. 2 Nr. 1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Sicherstellung der Wiedernutzbarmachung der Oberfläche bezügli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der vom einzustellenden Betrieb in Anspruch genommenen Fläch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0" y="1044720"/>
            <a:ext cx="98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1612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1" name="Rectangle 8"/>
          <p:cNvSpPr/>
          <p:nvPr/>
        </p:nvSpPr>
        <p:spPr>
          <a:xfrm>
            <a:off x="0" y="1044720"/>
            <a:ext cx="9864720" cy="43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f)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eiligung am Abschlussbetriebsplanverfahren (§ 54 Abs.2 sow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allgemeinen Maßgaben des Verwaltungsverfahrensgesetzes 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wV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Behörden sind zu beteiligen, soweit durch den Abschlussbetriebspla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ihre Aufgabenbereiche berührt werden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Gemeinden sind zu beteiligen, soweit ihre Planungshoheit berührt wird.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Umfasst der Verfahrensbereich Flächen Dritter, kommt eine Hinzu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ziehung dieser Eigentümer gemäß § 13 Abs. 2 VwVfG in Betracht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ine konzentrierende Wirkung der Abschlussbetriebsplanzulas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Ende der Bergaufsicht kraft Gesetzes oder durch Verwaltungsakt?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0" y="1044720"/>
            <a:ext cx="9864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0" y="1044720"/>
            <a:ext cx="9864720" cy="54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Verfahrensstufen und Verfahrensgestaltung, § 5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Betriebseinstellung bei großen komplexen Bergbaubetrieb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Abschlussbetriebsplan für den untertägigen Bereich eines Bergbaubetrieb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ßnahmen im Bereich des Grubengebäud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üllung von Schäch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serhal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Abschlussbetriebsplan für den übertägigen Bereich eines Bergbaubetriebe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bruchbetriebspla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lussbetriebsplan für die Fläche und den Boden mit Gefährd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schätzung ggf. Sanierungsmaßnahmen und Wiedernutzbarmach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Oberfläch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Zulässigkeit einer Verfahrensabstufung, § 53 Abs. 1 Satz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0" y="1044720"/>
            <a:ext cx="9864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0" y="1044720"/>
            <a:ext cx="98647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   Wiedernutzbarmachung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Definition § 4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Öffentliches Interes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Planungsrech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Sonderproblem Denkmalschu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grenzung Wiedernutzbarmachung/Folgenutz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99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V.    Gefahrenabwehr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tlastenproblematik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Anwendbarkeit Bundesbodenschutzgesetz/Landesbodenschutzgese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828800" indent="-4572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Nutzungsbezogene Betrachtungsweis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0" y="1044720"/>
            <a:ext cx="98647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0" y="1044720"/>
            <a:ext cx="9864720" cy="47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wasser/Oberirdische Gewä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Wasserhaushaltsgesetz/Landeswassergesetz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Vorsorgeprinzip und Minimierungsgebot (§ 1a Abs. 1 und 2 WH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bfallproblematik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Kreislaufwirtschafts- und Abfallgesetz (KrW-/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usnahmeklausel § 2 Abs. 1 Nr. 4 KrW-/Abf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Anwendung der materiellen Vorgaben des Abfallrecht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 Landesabfallgesetz (L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Zuständigkeit der Bergbehörde für die der Bergaufs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unterliegenden Betriebe (§ 34 Abs. 2 LAbfG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spcAft>
                <a:spcPts val="337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-   Keine Andienungspflicht an kommunale Entsorgungsträg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79280" y="1044720"/>
            <a:ext cx="96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8080" y="1647360"/>
            <a:ext cx="87224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.  Verantwortliche Personen, §§ 58 ff. BBErgG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Träger bergrechtlicher Veranwor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stellung verantwortlicher Person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Rechtliche Bedeutung der Bestell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 strafrechtliche Bedeut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 Aufsichts-, Kontroll- und Koordinierungspflicht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179280" y="1044720"/>
            <a:ext cx="968544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Probleme des Alt-Bergbaus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Bergschadenshaft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Ordnungsrechtliche Haftung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Verjährungsfrag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Besonderheiten des Braunkohlen-Altbergbaus in d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uen Bundesländer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Sanierungspla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Verantwortlichkeit und Organisation des Sanierungsbergbaus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 Verwaltungsabkommen Altlastenfinanzierung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Strafrechtliche Proble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  Verkehrssicherungs- und Ordnungspfli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358920" indent="72360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179280" y="1044720"/>
            <a:ext cx="9685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.       Bergschadensrecht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Verhältnis zum Betriebsplanrecht (Moers-Kapellen-Entscheid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s Bundesverwaltungsgerichts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Vermeidung von Bergschäden (Anpassungs- und Sicherungsmaßnah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auwarnung)  §§ 110 – 11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Schutzumfang, § 11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Gefährdungshaftung, Bergschadensvermutung, § 120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.   Haftungsschuldner, §§115, 116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.   Haftungsumfang, § 117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7.   Bergschadensverzicht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611280" y="1490400"/>
            <a:ext cx="8713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lvl="1" marL="1246320" indent="-609840">
              <a:lnSpc>
                <a:spcPct val="125000"/>
              </a:lnSpc>
              <a:tabLst>
                <a:tab algn="l" pos="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  <a:tab algn="l" pos="64008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weck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Förderung der Rohstoffgewinnung (§ 1 Nr. 1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.  Sicherheit der Betriebe und der Beschäftigten (§ 1 Nr. 2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3.  Gefahrenabwehr und Schadensausgleich (§ 1 N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3)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.     Geltungsbereich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  Tätigkeitsbezug (§ 2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2.   Bergbauliche Tätigkeit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246320" indent="-609840">
              <a:lnSpc>
                <a:spcPct val="125000"/>
              </a:lnSpc>
              <a:tabLst>
                <a:tab algn="l" pos="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  <a:tab algn="l" pos="64008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Aufsuchung, § 4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Gewinnung, § 4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Aufbereiten, § 4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179280" y="1044720"/>
            <a:ext cx="96854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jährungsfragen, § 117 Abs. 2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schadensausfallkasse, § 120 f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9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.  Aktuell: Haftung für Bergschäden aus Alt-Bergbau Geltung des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. Allg. Berggesetzes (prABG) und Vorläuf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1.  Verhältnis zum Ausgleichsanspruch nach § 24 Abs. 2 BBodSch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2" marL="1432080" indent="-449280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179280" y="1044720"/>
            <a:ext cx="968544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.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rundabtretung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echtigung, § 77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genstand, § 78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45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aussetzungen, § 79, insbesondere Gesamtabwägung i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verfahr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fahren, Entschädigung, vorzeitige Besitzeinweis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179280" y="1044720"/>
            <a:ext cx="968544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fugnisse der Bergaufsicht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   Behördenstruktu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   Bergaufsicht als Genehmigungs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 Bergaufsicht als Ordnungsbehörd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.   Bergaufsicht als Hilfsbeamte der Staatsanwaltschaft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799" name="Rectangle 8"/>
          <p:cNvSpPr/>
          <p:nvPr/>
        </p:nvSpPr>
        <p:spPr>
          <a:xfrm>
            <a:off x="179280" y="1044720"/>
            <a:ext cx="968544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J.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reislaufwirtschaft, Abfallrecht und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rgbaulicher Versatz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.    Abgrenzung Bergrecht – Abfallrecht – Kreislaufwirtschaftsrecht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.   Behandlung bergbaulicher Abfäll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sherige Rechtslag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ichtlinie bergbauliche Abfäll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§ 22a Allgemeine Bundesbergverordnun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 Anwendungsbere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 Kategorien von Bergbau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 Materielle Anforder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3"/>
          <p:cNvSpPr/>
          <p:nvPr/>
        </p:nvSpPr>
        <p:spPr>
          <a:xfrm>
            <a:off x="1547640" y="12319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468360" y="3138480"/>
            <a:ext cx="8713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1187280"/>
            <a:ext cx="8964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116000" y="2629080"/>
            <a:ext cx="7704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914400" indent="-45720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0" y="1044720"/>
            <a:ext cx="9864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609840">
              <a:lnSpc>
                <a:spcPct val="136000"/>
              </a:lnSpc>
              <a:spcBef>
                <a:spcPts val="112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  <a:ea typeface="ヒラギノ角ゴ Pro W3"/>
              </a:rPr>
              <a:t>	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79280" y="1044720"/>
            <a:ext cx="96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636480" indent="-457200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</p:txBody>
      </p:sp>
      <p:sp>
        <p:nvSpPr>
          <p:cNvPr id="806" name="Rectangle 9"/>
          <p:cNvSpPr/>
          <p:nvPr/>
        </p:nvSpPr>
        <p:spPr>
          <a:xfrm>
            <a:off x="675720" y="1344960"/>
            <a:ext cx="789624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.  d)   Verfahrensrechtliche Anforderungen an di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triebsplanzulassung von Bergbau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 Abfallwirtschaftspla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         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lvl="1" marL="1066680" indent="-60948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II. Versatz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 über den Versatz von Abfällen unter Tag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eststoffverwertung/Technische Regel “Versatz”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tertagedeponi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611280" y="1077480"/>
            <a:ext cx="871380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 Bergbauliche Tätigkeiten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erfasste Nebentätigkeit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vorbereitende Gewinnungshand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iedernutzbarmachung, § 4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triebsanlagen und Betriebseinrichtungen, § 2  Abs. 1 Nr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 sonstige Tätigkeiten (§ 2 Abs. 2)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895320" indent="-895320">
              <a:lnSpc>
                <a:spcPct val="125000"/>
              </a:lnSpc>
              <a:tabLst>
                <a:tab algn="l" pos="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  Steine und Erden: teilweise Abgrabungsrecht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252360" y="925920"/>
            <a:ext cx="943308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4240" indent="-533160">
              <a:lnSpc>
                <a:spcPct val="125000"/>
              </a:lnSpc>
              <a:spcAft>
                <a:spcPts val="300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rgbauberechtigungen</a:t>
            </a:r>
            <a:endParaRPr b="0" lang="en-US" sz="24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125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endParaRPr b="0" lang="en-US" sz="10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schätze</a:t>
            </a:r>
            <a:endParaRPr b="0" lang="en-US" sz="20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Definition in § 3 Abs. 1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Alle mineralischen Rohstoffe in festem oder flüssigem Zustand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Gase, die in natürlichen Ablagerungen oder Ansammlung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der auf der Erde oder im oder unter dem Meer vorkomm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Ausnahme Wasser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Das Bergrecht kennt drei Kategorien: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rgfreie Bodenschätze, § 3 Abs. 3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Grundeigene Bodenschätze, die unter das Bergrecht fallen, § 3 Abs. 4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onstige grundeigene Bodenschätz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714240" indent="-533160">
              <a:lnSpc>
                <a:spcPct val="125000"/>
              </a:lnSpc>
              <a:spcAft>
                <a:spcPts val="224"/>
              </a:spcAft>
              <a:tabLst>
                <a:tab algn="l" pos="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Abgrabungsrecht, kein Bergrecht)</a:t>
            </a:r>
            <a:r>
              <a:rPr b="0" lang="de-DE" sz="1800" spc="-1" strike="noStrike">
                <a:solidFill>
                  <a:srgbClr val="12254c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0" y="525600"/>
            <a:ext cx="961236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09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gfreie Bodenschätz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)   Bestimmung in § 3 Abs. 2 Satz 2, Abs. 3 BBergG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Bergfreie Bodenschätze sind vom Grundeigentum unabhängig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Im wesentlichen Aufzählung in § 3 Abs. 3 (Besonderheiten i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 neuen Ländern). Bergfreie Bodenschätze sind hauptsächlich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, Steinkohle, Braunkohle, Salze, Erdöl, Erdgas.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)    Bestimmte Bodenschätze gelten als bergfrei (§ 3 Abs. 3 Satz 2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BBergG); Festlandsockel, Küstengewässer, Erdwär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)    Besonderheit Kohlenwasserstoffe, Kohle: Einordnung der Gase 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ubengas, Flözgas)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özgasgewinnung in Steinkohlenrevieren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)    Besonderheit Küstengewässer, Festlandsockel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  <a:p>
            <a:pPr marL="1257480" indent="-609840">
              <a:lnSpc>
                <a:spcPct val="115000"/>
              </a:lnSpc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)    Besonderheit Erdwärme</a:t>
            </a:r>
            <a:endParaRPr b="0" lang="en-US" sz="1800" spc="-1" strike="noStrike">
              <a:solidFill>
                <a:srgbClr val="12254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4:29:58Z</dcterms:created>
  <dc:creator>Holger Seier</dc:creator>
  <dc:description/>
  <dc:language>en-US</dc:language>
  <cp:lastModifiedBy>K028176</cp:lastModifiedBy>
  <cp:lastPrinted>2005-10-13T16:19:43Z</cp:lastPrinted>
  <dcterms:modified xsi:type="dcterms:W3CDTF">2016-05-31T08:23:34Z</dcterms:modified>
  <cp:revision>156</cp:revision>
  <dc:subject/>
  <dc:title>DSK Musterfoliensatz</dc:title>
</cp:coreProperties>
</file>